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E56-3BE7-406C-A724-461BD5EA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CDD7-C84C-4A71-BA36-A87B8878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F059-5C82-4219-9292-FA97BE41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39D-2282-4F3C-98AB-CA1E4267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D1E1E-5370-4049-8C91-3D5F80EE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E3152-E0B1-49B3-9D9A-4D06B2BB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53C1D-72FC-4959-9D44-34DC1831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9C79C-E0CC-48A6-A95B-524532D1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70910-0746-4503-A421-B58D16DF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10427-1613-4377-8D3D-679E650E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5A238-3539-4C8E-BC74-CD164B61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C10-55CC-45B7-A2DF-1E2694AB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7A464-9506-4E3C-A1F5-878EA2F3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A820D-6592-4C1A-8447-F948A81F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80D1D-9127-4CF3-89D3-327A9345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7401D-536E-4B88-8CDA-CD5EDB26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8EDD0-55C4-4055-A1DA-2EEEB3DB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4E6-8607-41A3-A1CB-C8EF3112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A62-A292-4462-8F6E-BA5369B6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C46-DB10-4244-A456-CD873120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7F66-B618-464D-BE8F-14B194EF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7B3-4B1B-453B-B326-4A0FA182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3E1D-334D-4FB9-A829-89099A0E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16D-2852-416B-9894-7497B50C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13E5-753E-4B65-A29B-9E5035D0E180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E5B7-1127-4A12-9D3A-9AACC44A9E0F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ETROLU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3040" y="3982680"/>
            <a:ext cx="685656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(Adaptat după </a:t>
            </a:r>
            <a:r>
              <a:rPr b="0" i="1" lang="es-ES" sz="1000" spc="-1" strike="noStrike">
                <a:solidFill>
                  <a:srgbClr val="ffffff"/>
                </a:solidFill>
                <a:latin typeface="Tahoma"/>
              </a:rPr>
              <a:t>Manualul de Chimie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s-ES" sz="1000" spc="-1" strike="noStrike">
                <a:solidFill>
                  <a:srgbClr val="ffffff"/>
                </a:solidFill>
                <a:latin typeface="Tahoma"/>
              </a:rPr>
              <a:t>clasa a X-a</a:t>
            </a: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Rodica Constantinescu, Maria-Luiza Popescu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Primele cercetări legate de cunoaşterea compozi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ţiei 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Petrolul este un amestec 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complex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Sulful trebuie îndepărtat în cursul prelucrării petrolului, deoarece prin ardere rezultă dioxid de sulf (un gaz coroziv)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comp_i"/>
          <p:cNvPicPr/>
          <p:nvPr/>
        </p:nvPicPr>
        <p:blipFill>
          <a:blip r:embed="rId2">
            <a:grayscl/>
          </a:blip>
          <a:stretch/>
        </p:blipFill>
        <p:spPr>
          <a:xfrm>
            <a:off x="5105520" y="167652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etrolul este 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ste insolubil în apă, formând cu aceasta o emulsi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Cracar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Ştiaţi c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Metanul este principalul constituent al gazelor natura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9T11:08:1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